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952A1C57-BCAB-4AA6-A6A3-B7483FFC5C10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528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8:40Z</dcterms:modified>
  <cp:revision>47</cp:revision>
  <dc:subject/>
  <dc:title>幻灯片 1</dc:title>
</cp:coreProperties>
</file>